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572-C9A2-4C90-95B6-2A49A6C4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BD3-338B-47B2-BF57-2672A043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670-D3ED-4293-8A7E-EBCEA636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8DA-E159-44F3-AAC4-D74C6073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EA5-5479-4FD7-B2AE-DCCE2F38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430-C81E-4195-9F69-C6F63187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AC8-505B-4697-9B72-82B49DF3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C46-8FD2-4FEA-A47B-EF658E81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E42-5B9F-4842-8C46-AB0A8045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CE1-B653-47F3-870D-822CCF84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AFC-659C-4DAD-956E-FF28DFB3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043-BE3C-4F79-98B8-60CE66A3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066C-2F05-4B99-9343-9EADC5252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6040"/>
            <a:ext cx="9144000" cy="64947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С вяра в Теб да върв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искам Господ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С нежна Си ръ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Ти ме води.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 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4920" y="1192320"/>
            <a:ext cx="924084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Само да бъдеш 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прибежище м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с вяра, надежда, люб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и спасе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1640" y="1557360"/>
            <a:ext cx="87958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Дай ми надежда в сърце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сладък мир, поко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Докат’ дойдеш от неб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с ангели безброй.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/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34920" y="1192320"/>
            <a:ext cx="924084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Само да бъдеш 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прибежище м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с вяра, надежда, люб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и спасе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" y="1703520"/>
            <a:ext cx="87944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Ти, който сам Си любов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възлюбил Си ме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Дай ми от Твойта люб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и ще съм блажен.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/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34920" y="1192320"/>
            <a:ext cx="924084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Само да бъдеш 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прибежище м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с вяра, надежда, люб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  <a:ea typeface="Arial"/>
              </a:rPr>
              <a:t>и спасение.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 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2:24:48Z</dcterms:created>
  <dc:creator>TrifonTrifonow</dc:creator>
  <dc:description/>
  <dc:language>en-US</dc:language>
  <cp:lastModifiedBy>TrifonTrifonow</cp:lastModifiedBy>
  <dcterms:modified xsi:type="dcterms:W3CDTF">2005-09-19T12:46:05Z</dcterms:modified>
  <cp:revision>5</cp:revision>
  <dc:subject/>
  <dc:title>Slide 1</dc:title>
</cp:coreProperties>
</file>